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6F3-6CF3-4EA5-9825-2D5E7C37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A24-E0C6-41A1-9D43-0EB69CF0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D1B-4752-4923-83FC-4FEE23AA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DB7-B60E-4746-B180-B2446D60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B405-F8FF-49D1-A02C-755DDE4C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6D98-1203-4BFC-8396-31A1D917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98B3-8277-4D6E-B95C-2DCA73F0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97FB-F32D-4FE7-AF7B-68E70938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A14-BC19-4389-A0B8-42BB8479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6CF3-4151-401F-9020-0A5EFF6F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7A0-E66B-4388-BCFE-17BCC84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FB4-63EC-46B0-9324-6D1FC915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DE86-5834-4ECE-8679-3B1CC8D7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D24-E35A-4BBF-A2B6-01CB6629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CC6C-5993-457E-AEED-53C15416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8383-9D79-402D-8094-B6C66C11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9856-7E65-49A3-8906-C4725E95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BD7-0E34-461F-AB8D-40EBF16B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F2F-652A-4011-BCB8-3A8BB877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0D3-93E3-452D-8F75-176048A8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999-3E1A-432B-939C-66FF99CA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FB5-ADD6-47D2-856D-15FFEDA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A10-99DF-4565-8F20-6AD3BDA0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6AC-DD74-477E-B11D-BFF09A5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9C95-9EEF-4FEE-88C8-32990C246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AE70-6913-4134-B4F3-EC1CC5ED7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Quiz Ti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arker Fe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410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act on the play structure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91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act on the grass fiel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562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act in the lunch arbor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639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What kind of snacks are we allowed to bring to school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Transi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3657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walk to reces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What should we do when the bell ring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walk back to our classroom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5562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the equipment be returned and where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5715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What should you do if you need to leave the playground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4267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Zon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rker Felt"/>
              </a:rPr>
              <a:t>How should we act on the blacktop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5:02:17Z</dcterms:created>
  <dc:creator>San Diego City Schools</dc:creator>
  <dc:description/>
  <dc:language>en-US</dc:language>
  <cp:lastModifiedBy>San Diego City Schools</cp:lastModifiedBy>
  <dcterms:modified xsi:type="dcterms:W3CDTF">2009-09-03T16:02:06Z</dcterms:modified>
  <cp:revision>3</cp:revision>
  <dc:subject/>
  <dc:title>Quiz Time</dc:title>
</cp:coreProperties>
</file>